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9E68-5F18-492B-9CF2-C4DCCD825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your C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1892-36BD-4F32-9AC9-896DFCD15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(a poor desig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izes mutual visibility (but gain is minima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s are daisy-ch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Hu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distant CORS to stabilize tropo cor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OM (a good desig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H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daisy-chained m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ual visibility loss (but loss is minima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distant CORS to stabilize tropo cor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4A38-C67C-4531-BCF4-DCAFED27C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0C4C-A785-4356-AE92-5AE7C0F6A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53A-D80A-4AF8-B51D-79E87B3D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884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870-9FCC-4C15-998E-D09E77E6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930-C029-4E32-AC1D-B6F40439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CC6-EBF7-4E29-9852-AFDE9869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AE77-D08F-460F-B393-B5E71297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2C46-8789-47D9-B093-20F9DFA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D1F1-1612-4907-9E42-0942CE3A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6CAD-5235-4947-9109-ADD04A99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DFF0-DE49-458E-879D-E51ECB0C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9604-AD0B-47F8-B477-91A2F7F8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F261-43EC-4DB3-A2EE-4DDE7828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5B4-7145-41DF-928F-2025FC59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0FD1-3A6E-44BD-9848-C2CF5197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5638-56EE-44DD-AF63-50D2482A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5884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D0A5-2C0A-4879-8008-8061F28C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E97B-4EEF-4FD3-A626-1081EF5C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ED16-0678-40A6-A29B-1153DA11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C4FF-C240-43D3-98F3-734585D5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D4B2-C36F-4D81-A03D-30B1A742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757F-741D-4633-9BFB-67C8A8F7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748E-66CD-4A14-B7C6-08E28AEA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6A4F-B82C-468D-95F1-3F027CE1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65D-EFBD-4A47-9225-1A012E28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AFD5-79FB-41C6-B470-E71BA021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A315-F7FD-48A4-894F-89F4425D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5FC5-CED7-488F-B388-1C5222B4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7DEE-5D58-4090-8809-BAD7EA14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5884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1539-430F-454C-9116-29BAA78A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7E50-A362-48B3-816F-2A1978F1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7908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58840"/>
            <a:ext cx="264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4EA5-455E-43BF-8D71-5D33C937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7C9-3D41-4C4D-9A39-E2719870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AFF-6DE7-4741-AD48-18F93E89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E64-8F4A-4781-BCF5-11F835EB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BDA-21E3-4119-BD2F-A114BF56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884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AED-486C-4385-8489-8C47BF28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9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840"/>
            <a:ext cx="822960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547-BC09-40E3-8A22-A12E50B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ontinuation 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6E85-588C-4780-84E1-3AC2866C0F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428D-9B24-4183-BE25-FA84B66B3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B4BF-8428-486C-BBDC-93487DE9DD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F7D6-B167-4AA9-980A-3FB2A9C9C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3799-2417-4C38-8D2F-9EF6F4C87E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3212-790D-4975-BA12-81B7BCF60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ed Guidance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US Projects 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ubtitle 4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erald L.  M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Geodetic Surv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ilver Spring, M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F92F-F676-4555-88AB-133E44060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b mark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ize observations lost to the need for mutual visibility by keeping the distance to the Hub &lt; ~100 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eet the previous requirement, spatially large projects might require different Hubs be used in different se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Hubs should be present in all se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E5F6-7D69-4E47-B144-DC13046D4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osphere M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style can be either Step-offsets (SO) between intervals or Piecewise Linear (PWL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spirit of avoiding discrete steps transitioning from one tropo interval to the next, PWL troposphere adjustments are preferred - nature does not move in discrete st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sphere correction interv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justment interval may depend on local conditions, but, generally, 7200 sec is preferred (which is equivalen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3600 sec intervals but without the discrete step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90A1-B93F-4F1F-B682-A42C44450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luded C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79080"/>
            <a:ext cx="83217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, or a few at most, CORS will be Hu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t CORS must be included in all sessions for troposphere decorre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cluded CORS, particularly those used as Hubs, should be present in all se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it is not necessary to use all CORS uploaded by OPUS, more included CORS implies less dependence on a single CORS and a better tie to the NS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933A-8F57-4C37-82DD-4F2916BF9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aint Weigh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oice is almost always between Tight or Normal constraint weight for the C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CORS display seasonal motion which makes Tight constraint weight subopti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CORS have poor velocities which makes Tight constraint weight suboptimal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multiple CORS will always be used (at least 1 Hub + 1 distant CORS), Normal constraint weight seems prefer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016B-315F-47D0-9992-D90C49978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1: Connect marks directly to Hub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1447920" y="2971800"/>
            <a:ext cx="2057400" cy="1870200"/>
            <a:chOff x="1447920" y="2971800"/>
            <a:chExt cx="2057400" cy="1870200"/>
          </a:xfrm>
        </p:grpSpPr>
        <p:sp>
          <p:nvSpPr>
            <p:cNvPr id="198" name="Oval 2"/>
            <p:cNvSpPr/>
            <p:nvPr/>
          </p:nvSpPr>
          <p:spPr>
            <a:xfrm>
              <a:off x="1828800" y="358128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Oval 3"/>
            <p:cNvSpPr/>
            <p:nvPr/>
          </p:nvSpPr>
          <p:spPr>
            <a:xfrm>
              <a:off x="2362320" y="365760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Oval 4"/>
            <p:cNvSpPr/>
            <p:nvPr/>
          </p:nvSpPr>
          <p:spPr>
            <a:xfrm>
              <a:off x="1981080" y="419112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Oval 5"/>
            <p:cNvSpPr/>
            <p:nvPr/>
          </p:nvSpPr>
          <p:spPr>
            <a:xfrm>
              <a:off x="2635560" y="419112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Oval 6"/>
            <p:cNvSpPr/>
            <p:nvPr/>
          </p:nvSpPr>
          <p:spPr>
            <a:xfrm>
              <a:off x="2330640" y="449604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Oval 7"/>
            <p:cNvSpPr/>
            <p:nvPr/>
          </p:nvSpPr>
          <p:spPr>
            <a:xfrm>
              <a:off x="2563920" y="396252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2895840" y="376560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Isosceles Triangle 9"/>
            <p:cNvSpPr/>
            <p:nvPr/>
          </p:nvSpPr>
          <p:spPr>
            <a:xfrm>
              <a:off x="1447920" y="297180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Isosceles Triangle 10"/>
            <p:cNvSpPr/>
            <p:nvPr/>
          </p:nvSpPr>
          <p:spPr>
            <a:xfrm>
              <a:off x="3200760" y="453744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Straight Connector 12"/>
            <p:cNvSpPr/>
            <p:nvPr/>
          </p:nvSpPr>
          <p:spPr>
            <a:xfrm>
              <a:off x="1577880" y="3178080"/>
              <a:ext cx="326880" cy="479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Straight Connector 14"/>
            <p:cNvSpPr/>
            <p:nvPr/>
          </p:nvSpPr>
          <p:spPr>
            <a:xfrm>
              <a:off x="1905120" y="3581280"/>
              <a:ext cx="152280" cy="762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Straight Connector 16"/>
            <p:cNvSpPr/>
            <p:nvPr/>
          </p:nvSpPr>
          <p:spPr>
            <a:xfrm>
              <a:off x="2057400" y="4343400"/>
              <a:ext cx="403200" cy="282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Straight Connector 19"/>
            <p:cNvSpPr/>
            <p:nvPr/>
          </p:nvSpPr>
          <p:spPr>
            <a:xfrm flipV="1">
              <a:off x="2460600" y="4321440"/>
              <a:ext cx="196560" cy="196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Straight Connector 23"/>
            <p:cNvSpPr/>
            <p:nvPr/>
          </p:nvSpPr>
          <p:spPr>
            <a:xfrm>
              <a:off x="2787840" y="4302360"/>
              <a:ext cx="565200" cy="49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Straight Connector 25"/>
            <p:cNvSpPr/>
            <p:nvPr/>
          </p:nvSpPr>
          <p:spPr>
            <a:xfrm>
              <a:off x="1828800" y="3657600"/>
              <a:ext cx="555480" cy="219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Straight Connector 27"/>
            <p:cNvSpPr/>
            <p:nvPr/>
          </p:nvSpPr>
          <p:spPr>
            <a:xfrm>
              <a:off x="2514600" y="3733920"/>
              <a:ext cx="457200" cy="107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Straight Connector 30"/>
            <p:cNvSpPr/>
            <p:nvPr/>
          </p:nvSpPr>
          <p:spPr>
            <a:xfrm flipH="1">
              <a:off x="2716200" y="3863880"/>
              <a:ext cx="255600" cy="174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Straight Connector 33"/>
            <p:cNvSpPr/>
            <p:nvPr/>
          </p:nvSpPr>
          <p:spPr>
            <a:xfrm>
              <a:off x="2640240" y="3962520"/>
              <a:ext cx="125280" cy="358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Group 11"/>
          <p:cNvGrpSpPr/>
          <p:nvPr/>
        </p:nvGrpSpPr>
        <p:grpSpPr>
          <a:xfrm>
            <a:off x="5257800" y="2908440"/>
            <a:ext cx="2057400" cy="1869840"/>
            <a:chOff x="5257800" y="2908440"/>
            <a:chExt cx="2057400" cy="1869840"/>
          </a:xfrm>
        </p:grpSpPr>
        <p:sp>
          <p:nvSpPr>
            <p:cNvPr id="217" name="Oval 36"/>
            <p:cNvSpPr/>
            <p:nvPr/>
          </p:nvSpPr>
          <p:spPr>
            <a:xfrm>
              <a:off x="5638680" y="351792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Oval 37"/>
            <p:cNvSpPr/>
            <p:nvPr/>
          </p:nvSpPr>
          <p:spPr>
            <a:xfrm>
              <a:off x="6172200" y="359424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Oval 38"/>
            <p:cNvSpPr/>
            <p:nvPr/>
          </p:nvSpPr>
          <p:spPr>
            <a:xfrm>
              <a:off x="5790960" y="412740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Oval 39"/>
            <p:cNvSpPr/>
            <p:nvPr/>
          </p:nvSpPr>
          <p:spPr>
            <a:xfrm>
              <a:off x="6445440" y="412740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Oval 40"/>
            <p:cNvSpPr/>
            <p:nvPr/>
          </p:nvSpPr>
          <p:spPr>
            <a:xfrm>
              <a:off x="6140520" y="443232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Oval 41"/>
            <p:cNvSpPr/>
            <p:nvPr/>
          </p:nvSpPr>
          <p:spPr>
            <a:xfrm>
              <a:off x="6373800" y="389880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Oval 42"/>
            <p:cNvSpPr/>
            <p:nvPr/>
          </p:nvSpPr>
          <p:spPr>
            <a:xfrm>
              <a:off x="6705720" y="370224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Isosceles Triangle 43"/>
            <p:cNvSpPr/>
            <p:nvPr/>
          </p:nvSpPr>
          <p:spPr>
            <a:xfrm>
              <a:off x="5257800" y="290844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Isosceles Triangle 44"/>
            <p:cNvSpPr/>
            <p:nvPr/>
          </p:nvSpPr>
          <p:spPr>
            <a:xfrm>
              <a:off x="7010640" y="447372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Straight Connector 45"/>
            <p:cNvSpPr/>
            <p:nvPr/>
          </p:nvSpPr>
          <p:spPr>
            <a:xfrm>
              <a:off x="5387760" y="3114720"/>
              <a:ext cx="326880" cy="4791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Straight Connector 55"/>
            <p:cNvSpPr/>
            <p:nvPr/>
          </p:nvSpPr>
          <p:spPr>
            <a:xfrm>
              <a:off x="5333760" y="3060720"/>
              <a:ext cx="533160" cy="1066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Straight Connector 57"/>
            <p:cNvSpPr/>
            <p:nvPr/>
          </p:nvSpPr>
          <p:spPr>
            <a:xfrm>
              <a:off x="5333760" y="3060720"/>
              <a:ext cx="914400" cy="596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5333760" y="3060720"/>
              <a:ext cx="882720" cy="1371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>
              <a:off x="5410080" y="3213000"/>
              <a:ext cx="1111320" cy="914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Straight Connector 67"/>
            <p:cNvSpPr/>
            <p:nvPr/>
          </p:nvSpPr>
          <p:spPr>
            <a:xfrm>
              <a:off x="5333760" y="3060720"/>
              <a:ext cx="1062000" cy="860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Straight Connector 69"/>
            <p:cNvSpPr/>
            <p:nvPr/>
          </p:nvSpPr>
          <p:spPr>
            <a:xfrm>
              <a:off x="5333760" y="3060720"/>
              <a:ext cx="1393920" cy="66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TextBox 74"/>
          <p:cNvSpPr/>
          <p:nvPr/>
        </p:nvSpPr>
        <p:spPr>
          <a:xfrm>
            <a:off x="239400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5"/>
          <p:cNvSpPr/>
          <p:nvPr/>
        </p:nvSpPr>
        <p:spPr>
          <a:xfrm>
            <a:off x="6172200" y="4876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0BC2-5823-4782-875F-D1CDE2B5D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74"/>
          <p:cNvSpPr/>
          <p:nvPr/>
        </p:nvSpPr>
        <p:spPr>
          <a:xfrm>
            <a:off x="5691240" y="1986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5"/>
          <p:cNvSpPr/>
          <p:nvPr/>
        </p:nvSpPr>
        <p:spPr>
          <a:xfrm>
            <a:off x="5691240" y="43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"/>
          <p:cNvGrpSpPr/>
          <p:nvPr/>
        </p:nvGrpSpPr>
        <p:grpSpPr>
          <a:xfrm>
            <a:off x="473040" y="1717560"/>
            <a:ext cx="2057400" cy="1870200"/>
            <a:chOff x="473040" y="1717560"/>
            <a:chExt cx="2057400" cy="1870200"/>
          </a:xfrm>
        </p:grpSpPr>
        <p:sp>
          <p:nvSpPr>
            <p:cNvPr id="241" name="Oval 2"/>
            <p:cNvSpPr/>
            <p:nvPr/>
          </p:nvSpPr>
          <p:spPr>
            <a:xfrm>
              <a:off x="853920" y="232704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3"/>
            <p:cNvSpPr/>
            <p:nvPr/>
          </p:nvSpPr>
          <p:spPr>
            <a:xfrm>
              <a:off x="1387440" y="240336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Oval 4"/>
            <p:cNvSpPr/>
            <p:nvPr/>
          </p:nvSpPr>
          <p:spPr>
            <a:xfrm>
              <a:off x="1006200" y="293688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Isosceles Triangle 9"/>
            <p:cNvSpPr/>
            <p:nvPr/>
          </p:nvSpPr>
          <p:spPr>
            <a:xfrm>
              <a:off x="473040" y="1717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Isosceles Triangle 10"/>
            <p:cNvSpPr/>
            <p:nvPr/>
          </p:nvSpPr>
          <p:spPr>
            <a:xfrm>
              <a:off x="2225880" y="328320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Straight Connector 12"/>
            <p:cNvSpPr/>
            <p:nvPr/>
          </p:nvSpPr>
          <p:spPr>
            <a:xfrm>
              <a:off x="603000" y="1923840"/>
              <a:ext cx="326880" cy="479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Straight Connector 13"/>
            <p:cNvSpPr/>
            <p:nvPr/>
          </p:nvSpPr>
          <p:spPr>
            <a:xfrm>
              <a:off x="625320" y="2022120"/>
              <a:ext cx="403200" cy="936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Straight Connector 17"/>
            <p:cNvSpPr/>
            <p:nvPr/>
          </p:nvSpPr>
          <p:spPr>
            <a:xfrm>
              <a:off x="549000" y="1869840"/>
              <a:ext cx="860400" cy="555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Group 42"/>
          <p:cNvGrpSpPr/>
          <p:nvPr/>
        </p:nvGrpSpPr>
        <p:grpSpPr>
          <a:xfrm>
            <a:off x="3354480" y="1701720"/>
            <a:ext cx="2057400" cy="1870200"/>
            <a:chOff x="3354480" y="1701720"/>
            <a:chExt cx="2057400" cy="1870200"/>
          </a:xfrm>
        </p:grpSpPr>
        <p:sp>
          <p:nvSpPr>
            <p:cNvPr id="250" name="Oval 46"/>
            <p:cNvSpPr/>
            <p:nvPr/>
          </p:nvSpPr>
          <p:spPr>
            <a:xfrm>
              <a:off x="4542120" y="292104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Oval 47"/>
            <p:cNvSpPr/>
            <p:nvPr/>
          </p:nvSpPr>
          <p:spPr>
            <a:xfrm>
              <a:off x="4237200" y="322596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Oval 48"/>
            <p:cNvSpPr/>
            <p:nvPr/>
          </p:nvSpPr>
          <p:spPr>
            <a:xfrm>
              <a:off x="4470480" y="269244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Oval 55"/>
            <p:cNvSpPr/>
            <p:nvPr/>
          </p:nvSpPr>
          <p:spPr>
            <a:xfrm>
              <a:off x="4802400" y="249552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Isosceles Triangle 57"/>
            <p:cNvSpPr/>
            <p:nvPr/>
          </p:nvSpPr>
          <p:spPr>
            <a:xfrm>
              <a:off x="3354480" y="170172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Isosceles Triangle 63"/>
            <p:cNvSpPr/>
            <p:nvPr/>
          </p:nvSpPr>
          <p:spPr>
            <a:xfrm>
              <a:off x="5107320" y="32673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Straight Connector 67"/>
            <p:cNvSpPr/>
            <p:nvPr/>
          </p:nvSpPr>
          <p:spPr>
            <a:xfrm>
              <a:off x="4694400" y="3032280"/>
              <a:ext cx="565200" cy="49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Straight Connector 72"/>
            <p:cNvSpPr/>
            <p:nvPr/>
          </p:nvSpPr>
          <p:spPr>
            <a:xfrm>
              <a:off x="4878720" y="2647800"/>
              <a:ext cx="304560" cy="771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Straight Connector 73"/>
            <p:cNvSpPr/>
            <p:nvPr/>
          </p:nvSpPr>
          <p:spPr>
            <a:xfrm>
              <a:off x="4546800" y="2692440"/>
              <a:ext cx="636480" cy="727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Straight Connector 74"/>
            <p:cNvSpPr/>
            <p:nvPr/>
          </p:nvSpPr>
          <p:spPr>
            <a:xfrm>
              <a:off x="4259160" y="3356280"/>
              <a:ext cx="923760" cy="63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Rectangle 14"/>
          <p:cNvSpPr/>
          <p:nvPr/>
        </p:nvSpPr>
        <p:spPr>
          <a:xfrm>
            <a:off x="317520" y="1600200"/>
            <a:ext cx="2362320" cy="212400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5"/>
          <p:cNvSpPr/>
          <p:nvPr/>
        </p:nvSpPr>
        <p:spPr>
          <a:xfrm>
            <a:off x="3186000" y="1616040"/>
            <a:ext cx="2362320" cy="212580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Group 76"/>
          <p:cNvGrpSpPr/>
          <p:nvPr/>
        </p:nvGrpSpPr>
        <p:grpSpPr>
          <a:xfrm>
            <a:off x="6645240" y="1717560"/>
            <a:ext cx="2057400" cy="1870200"/>
            <a:chOff x="6645240" y="1717560"/>
            <a:chExt cx="2057400" cy="1870200"/>
          </a:xfrm>
        </p:grpSpPr>
        <p:sp>
          <p:nvSpPr>
            <p:cNvPr id="263" name="Oval 77"/>
            <p:cNvSpPr/>
            <p:nvPr/>
          </p:nvSpPr>
          <p:spPr>
            <a:xfrm>
              <a:off x="7026120" y="232704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78"/>
            <p:cNvSpPr/>
            <p:nvPr/>
          </p:nvSpPr>
          <p:spPr>
            <a:xfrm>
              <a:off x="7559640" y="240336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79"/>
            <p:cNvSpPr/>
            <p:nvPr/>
          </p:nvSpPr>
          <p:spPr>
            <a:xfrm>
              <a:off x="7178400" y="293688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80"/>
            <p:cNvSpPr/>
            <p:nvPr/>
          </p:nvSpPr>
          <p:spPr>
            <a:xfrm>
              <a:off x="7832880" y="293688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81"/>
            <p:cNvSpPr/>
            <p:nvPr/>
          </p:nvSpPr>
          <p:spPr>
            <a:xfrm>
              <a:off x="7527960" y="324180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82"/>
            <p:cNvSpPr/>
            <p:nvPr/>
          </p:nvSpPr>
          <p:spPr>
            <a:xfrm>
              <a:off x="7761240" y="270828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Oval 83"/>
            <p:cNvSpPr/>
            <p:nvPr/>
          </p:nvSpPr>
          <p:spPr>
            <a:xfrm>
              <a:off x="8093160" y="251136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Isosceles Triangle 84"/>
            <p:cNvSpPr/>
            <p:nvPr/>
          </p:nvSpPr>
          <p:spPr>
            <a:xfrm>
              <a:off x="6645240" y="1717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Isosceles Triangle 85"/>
            <p:cNvSpPr/>
            <p:nvPr/>
          </p:nvSpPr>
          <p:spPr>
            <a:xfrm>
              <a:off x="8398080" y="328320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Straight Connector 86"/>
            <p:cNvSpPr/>
            <p:nvPr/>
          </p:nvSpPr>
          <p:spPr>
            <a:xfrm>
              <a:off x="6775200" y="1923840"/>
              <a:ext cx="326880" cy="479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Straight Connector 87"/>
            <p:cNvSpPr/>
            <p:nvPr/>
          </p:nvSpPr>
          <p:spPr>
            <a:xfrm>
              <a:off x="7985160" y="3048120"/>
              <a:ext cx="565200" cy="49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Straight Connector 88"/>
            <p:cNvSpPr/>
            <p:nvPr/>
          </p:nvSpPr>
          <p:spPr>
            <a:xfrm>
              <a:off x="6797520" y="2022120"/>
              <a:ext cx="403200" cy="936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89"/>
            <p:cNvSpPr/>
            <p:nvPr/>
          </p:nvSpPr>
          <p:spPr>
            <a:xfrm>
              <a:off x="6721200" y="1869840"/>
              <a:ext cx="860400" cy="555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Straight Connector 90"/>
            <p:cNvSpPr/>
            <p:nvPr/>
          </p:nvSpPr>
          <p:spPr>
            <a:xfrm>
              <a:off x="8169480" y="2663640"/>
              <a:ext cx="304560" cy="771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Straight Connector 91"/>
            <p:cNvSpPr/>
            <p:nvPr/>
          </p:nvSpPr>
          <p:spPr>
            <a:xfrm>
              <a:off x="7837560" y="2708280"/>
              <a:ext cx="636480" cy="727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Straight Connector 92"/>
            <p:cNvSpPr/>
            <p:nvPr/>
          </p:nvSpPr>
          <p:spPr>
            <a:xfrm>
              <a:off x="7549920" y="3372120"/>
              <a:ext cx="923760" cy="63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9" name="Rectangle 93"/>
          <p:cNvSpPr/>
          <p:nvPr/>
        </p:nvSpPr>
        <p:spPr>
          <a:xfrm>
            <a:off x="6477120" y="1633680"/>
            <a:ext cx="2361960" cy="212400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2683080" y="220824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94"/>
          <p:cNvSpPr/>
          <p:nvPr/>
        </p:nvSpPr>
        <p:spPr>
          <a:xfrm>
            <a:off x="5845680" y="2214720"/>
            <a:ext cx="40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35"/>
          <p:cNvSpPr/>
          <p:nvPr/>
        </p:nvSpPr>
        <p:spPr>
          <a:xfrm>
            <a:off x="2670120" y="455148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95"/>
          <p:cNvGrpSpPr/>
          <p:nvPr/>
        </p:nvGrpSpPr>
        <p:grpSpPr>
          <a:xfrm>
            <a:off x="460440" y="4060800"/>
            <a:ext cx="2057400" cy="1870200"/>
            <a:chOff x="460440" y="4060800"/>
            <a:chExt cx="2057400" cy="1870200"/>
          </a:xfrm>
        </p:grpSpPr>
        <p:sp>
          <p:nvSpPr>
            <p:cNvPr id="284" name="Oval 96"/>
            <p:cNvSpPr/>
            <p:nvPr/>
          </p:nvSpPr>
          <p:spPr>
            <a:xfrm>
              <a:off x="841320" y="467028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Oval 97"/>
            <p:cNvSpPr/>
            <p:nvPr/>
          </p:nvSpPr>
          <p:spPr>
            <a:xfrm>
              <a:off x="1374840" y="474660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Oval 98"/>
            <p:cNvSpPr/>
            <p:nvPr/>
          </p:nvSpPr>
          <p:spPr>
            <a:xfrm>
              <a:off x="993600" y="528012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Isosceles Triangle 99"/>
            <p:cNvSpPr/>
            <p:nvPr/>
          </p:nvSpPr>
          <p:spPr>
            <a:xfrm>
              <a:off x="460440" y="406080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Isosceles Triangle 100"/>
            <p:cNvSpPr/>
            <p:nvPr/>
          </p:nvSpPr>
          <p:spPr>
            <a:xfrm>
              <a:off x="2213280" y="562644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Straight Connector 101"/>
            <p:cNvSpPr/>
            <p:nvPr/>
          </p:nvSpPr>
          <p:spPr>
            <a:xfrm>
              <a:off x="590400" y="4267080"/>
              <a:ext cx="326880" cy="479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Straight Connector 102"/>
            <p:cNvSpPr/>
            <p:nvPr/>
          </p:nvSpPr>
          <p:spPr>
            <a:xfrm>
              <a:off x="612720" y="4365360"/>
              <a:ext cx="403200" cy="936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Straight Connector 103"/>
            <p:cNvSpPr/>
            <p:nvPr/>
          </p:nvSpPr>
          <p:spPr>
            <a:xfrm>
              <a:off x="536400" y="4213080"/>
              <a:ext cx="860400" cy="555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Group 104"/>
          <p:cNvGrpSpPr/>
          <p:nvPr/>
        </p:nvGrpSpPr>
        <p:grpSpPr>
          <a:xfrm>
            <a:off x="3341520" y="4044960"/>
            <a:ext cx="2057400" cy="1870200"/>
            <a:chOff x="3341520" y="4044960"/>
            <a:chExt cx="2057400" cy="1870200"/>
          </a:xfrm>
        </p:grpSpPr>
        <p:sp>
          <p:nvSpPr>
            <p:cNvPr id="293" name="Oval 105"/>
            <p:cNvSpPr/>
            <p:nvPr/>
          </p:nvSpPr>
          <p:spPr>
            <a:xfrm>
              <a:off x="4529160" y="526428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106"/>
            <p:cNvSpPr/>
            <p:nvPr/>
          </p:nvSpPr>
          <p:spPr>
            <a:xfrm>
              <a:off x="4224240" y="556920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107"/>
            <p:cNvSpPr/>
            <p:nvPr/>
          </p:nvSpPr>
          <p:spPr>
            <a:xfrm>
              <a:off x="4457520" y="503568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Oval 108"/>
            <p:cNvSpPr/>
            <p:nvPr/>
          </p:nvSpPr>
          <p:spPr>
            <a:xfrm>
              <a:off x="4789440" y="483876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Isosceles Triangle 109"/>
            <p:cNvSpPr/>
            <p:nvPr/>
          </p:nvSpPr>
          <p:spPr>
            <a:xfrm>
              <a:off x="3341520" y="40449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Isosceles Triangle 110"/>
            <p:cNvSpPr/>
            <p:nvPr/>
          </p:nvSpPr>
          <p:spPr>
            <a:xfrm>
              <a:off x="5094360" y="561060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Straight Connector 111"/>
            <p:cNvSpPr/>
            <p:nvPr/>
          </p:nvSpPr>
          <p:spPr>
            <a:xfrm>
              <a:off x="4681440" y="5375520"/>
              <a:ext cx="565200" cy="49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Straight Connector 112"/>
            <p:cNvSpPr/>
            <p:nvPr/>
          </p:nvSpPr>
          <p:spPr>
            <a:xfrm>
              <a:off x="4865760" y="4991040"/>
              <a:ext cx="304560" cy="771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Straight Connector 113"/>
            <p:cNvSpPr/>
            <p:nvPr/>
          </p:nvSpPr>
          <p:spPr>
            <a:xfrm>
              <a:off x="4533840" y="5035680"/>
              <a:ext cx="636480" cy="727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Straight Connector 114"/>
            <p:cNvSpPr/>
            <p:nvPr/>
          </p:nvSpPr>
          <p:spPr>
            <a:xfrm>
              <a:off x="4246200" y="5699520"/>
              <a:ext cx="923760" cy="63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Rectangle 115"/>
          <p:cNvSpPr/>
          <p:nvPr/>
        </p:nvSpPr>
        <p:spPr>
          <a:xfrm>
            <a:off x="304920" y="3943440"/>
            <a:ext cx="2361960" cy="212400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16"/>
          <p:cNvSpPr/>
          <p:nvPr/>
        </p:nvSpPr>
        <p:spPr>
          <a:xfrm>
            <a:off x="3173400" y="3960720"/>
            <a:ext cx="2362320" cy="212400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Group 117"/>
          <p:cNvGrpSpPr/>
          <p:nvPr/>
        </p:nvGrpSpPr>
        <p:grpSpPr>
          <a:xfrm>
            <a:off x="6632640" y="4060800"/>
            <a:ext cx="2057400" cy="1870200"/>
            <a:chOff x="6632640" y="4060800"/>
            <a:chExt cx="2057400" cy="1870200"/>
          </a:xfrm>
        </p:grpSpPr>
        <p:sp>
          <p:nvSpPr>
            <p:cNvPr id="306" name="Oval 118"/>
            <p:cNvSpPr/>
            <p:nvPr/>
          </p:nvSpPr>
          <p:spPr>
            <a:xfrm>
              <a:off x="7013520" y="467028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119"/>
            <p:cNvSpPr/>
            <p:nvPr/>
          </p:nvSpPr>
          <p:spPr>
            <a:xfrm>
              <a:off x="7547040" y="474660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120"/>
            <p:cNvSpPr/>
            <p:nvPr/>
          </p:nvSpPr>
          <p:spPr>
            <a:xfrm>
              <a:off x="7165800" y="528012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121"/>
            <p:cNvSpPr/>
            <p:nvPr/>
          </p:nvSpPr>
          <p:spPr>
            <a:xfrm>
              <a:off x="7820280" y="528012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Oval 122"/>
            <p:cNvSpPr/>
            <p:nvPr/>
          </p:nvSpPr>
          <p:spPr>
            <a:xfrm>
              <a:off x="7515360" y="558504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23"/>
            <p:cNvSpPr/>
            <p:nvPr/>
          </p:nvSpPr>
          <p:spPr>
            <a:xfrm>
              <a:off x="7748640" y="505152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Oval 124"/>
            <p:cNvSpPr/>
            <p:nvPr/>
          </p:nvSpPr>
          <p:spPr>
            <a:xfrm>
              <a:off x="8080560" y="4854600"/>
              <a:ext cx="152280" cy="1522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Isosceles Triangle 125"/>
            <p:cNvSpPr/>
            <p:nvPr/>
          </p:nvSpPr>
          <p:spPr>
            <a:xfrm>
              <a:off x="6632640" y="406080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Isosceles Triangle 126"/>
            <p:cNvSpPr/>
            <p:nvPr/>
          </p:nvSpPr>
          <p:spPr>
            <a:xfrm>
              <a:off x="8385480" y="562644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Straight Connector 127"/>
            <p:cNvSpPr/>
            <p:nvPr/>
          </p:nvSpPr>
          <p:spPr>
            <a:xfrm>
              <a:off x="6762600" y="4267080"/>
              <a:ext cx="326880" cy="479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Straight Connector 128"/>
            <p:cNvSpPr/>
            <p:nvPr/>
          </p:nvSpPr>
          <p:spPr>
            <a:xfrm>
              <a:off x="7972560" y="5391360"/>
              <a:ext cx="565200" cy="49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Straight Connector 129"/>
            <p:cNvSpPr/>
            <p:nvPr/>
          </p:nvSpPr>
          <p:spPr>
            <a:xfrm>
              <a:off x="6784920" y="4365360"/>
              <a:ext cx="403200" cy="936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Straight Connector 130"/>
            <p:cNvSpPr/>
            <p:nvPr/>
          </p:nvSpPr>
          <p:spPr>
            <a:xfrm>
              <a:off x="6708600" y="4213080"/>
              <a:ext cx="860400" cy="555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Straight Connector 131"/>
            <p:cNvSpPr/>
            <p:nvPr/>
          </p:nvSpPr>
          <p:spPr>
            <a:xfrm>
              <a:off x="8156880" y="5006880"/>
              <a:ext cx="304560" cy="771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Straight Connector 132"/>
            <p:cNvSpPr/>
            <p:nvPr/>
          </p:nvSpPr>
          <p:spPr>
            <a:xfrm>
              <a:off x="7824960" y="5051520"/>
              <a:ext cx="636480" cy="727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Straight Connector 133"/>
            <p:cNvSpPr/>
            <p:nvPr/>
          </p:nvSpPr>
          <p:spPr>
            <a:xfrm>
              <a:off x="7537320" y="5715360"/>
              <a:ext cx="923760" cy="63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Rectangle 134"/>
          <p:cNvSpPr/>
          <p:nvPr/>
        </p:nvSpPr>
        <p:spPr>
          <a:xfrm>
            <a:off x="6464160" y="3976560"/>
            <a:ext cx="2362320" cy="212436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36"/>
          <p:cNvSpPr/>
          <p:nvPr/>
        </p:nvSpPr>
        <p:spPr>
          <a:xfrm>
            <a:off x="5833080" y="4557600"/>
            <a:ext cx="40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traight Connector 137"/>
          <p:cNvSpPr/>
          <p:nvPr/>
        </p:nvSpPr>
        <p:spPr>
          <a:xfrm>
            <a:off x="612720" y="4255920"/>
            <a:ext cx="1752480" cy="15652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traight Connector 138"/>
          <p:cNvSpPr/>
          <p:nvPr/>
        </p:nvSpPr>
        <p:spPr>
          <a:xfrm>
            <a:off x="3505320" y="4272120"/>
            <a:ext cx="1752480" cy="15652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traight Connector 139"/>
          <p:cNvSpPr/>
          <p:nvPr/>
        </p:nvSpPr>
        <p:spPr>
          <a:xfrm>
            <a:off x="6781680" y="4272120"/>
            <a:ext cx="1752840" cy="15652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2: Create a single reference networ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1634040" y="160020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ession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41"/>
          <p:cNvSpPr/>
          <p:nvPr/>
        </p:nvSpPr>
        <p:spPr>
          <a:xfrm>
            <a:off x="4510440" y="161460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ession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42"/>
          <p:cNvSpPr/>
          <p:nvPr/>
        </p:nvSpPr>
        <p:spPr>
          <a:xfrm>
            <a:off x="1633320" y="39607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ession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43"/>
          <p:cNvSpPr/>
          <p:nvPr/>
        </p:nvSpPr>
        <p:spPr>
          <a:xfrm>
            <a:off x="4509720" y="397368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ession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44"/>
          <p:cNvSpPr/>
          <p:nvPr/>
        </p:nvSpPr>
        <p:spPr>
          <a:xfrm>
            <a:off x="7791840" y="16146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45"/>
          <p:cNvSpPr/>
          <p:nvPr/>
        </p:nvSpPr>
        <p:spPr>
          <a:xfrm>
            <a:off x="7790760" y="39736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D947-8E00-4C7D-B9D9-7C0463214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rcRect l="17707" t="38992" r="13189" b="23307"/>
          <a:stretch/>
        </p:blipFill>
        <p:spPr>
          <a:xfrm>
            <a:off x="1219320" y="4371840"/>
            <a:ext cx="6858000" cy="2105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rcRect l="9087" t="34730" r="12596" b="24759"/>
          <a:stretch/>
        </p:blipFill>
        <p:spPr>
          <a:xfrm>
            <a:off x="1219320" y="2195640"/>
            <a:ext cx="6858000" cy="19954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2"/>
          <p:cNvSpPr/>
          <p:nvPr/>
        </p:nvSpPr>
        <p:spPr>
          <a:xfrm>
            <a:off x="1295280" y="53341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ly this CORS is designated Hu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0" name="Straight Arrow Connector 4"/>
          <p:cNvCxnSpPr/>
          <p:nvPr/>
        </p:nvCxnSpPr>
        <p:spPr>
          <a:xfrm flipV="1">
            <a:off x="2590920" y="4799880"/>
            <a:ext cx="76248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1" name="TextBox 5"/>
          <p:cNvSpPr/>
          <p:nvPr/>
        </p:nvSpPr>
        <p:spPr>
          <a:xfrm>
            <a:off x="2324160" y="1447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tant CORS for tropo decorre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2" name="Straight Arrow Connector 7"/>
          <p:cNvCxnSpPr/>
          <p:nvPr/>
        </p:nvCxnSpPr>
        <p:spPr>
          <a:xfrm flipH="1">
            <a:off x="1599480" y="1904760"/>
            <a:ext cx="724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3" name="Rectangle 1"/>
          <p:cNvSpPr/>
          <p:nvPr/>
        </p:nvSpPr>
        <p:spPr>
          <a:xfrm>
            <a:off x="7086600" y="3581280"/>
            <a:ext cx="609480" cy="228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228600" y="457200"/>
            <a:ext cx="8686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Example 3: A single Hub examp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6585-258D-4250-A38F-4BC43DAC3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b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88280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connect a project mark with just a few hours of data to distant CORS (too few mutual observa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advantage of their continuous data collection by using CORS as Hub(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3A8B-41FB-4788-AF25-8D0080FC7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of project as having 2 compon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precision - get best relative pos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accuracy - multiple CORS tie the local network into NS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C6A3-D2D4-4BE2-AF32-F87FCDDF9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79080"/>
            <a:ext cx="8534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precision - get best relative pos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common-mode errors to your advan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identical antennas when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baselines short maximizing simultaneous observ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single Hub per s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same Hub for all sessions when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at least one distant CORS to stabilize tropo corre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constr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D86E-0F8F-4E8E-8049-6D5C611D6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20932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review some of the material from the background discussion which we’ll call our Guiding Princi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1C93-A7BE-4A6D-B831-633D37DF6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279080"/>
            <a:ext cx="8534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ccuracy - multiple CORS tie the local network into NS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the Hub(s) and distant CORS in all ses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CORS remove single reference mark b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constraint weights allow for small variations in positions typical of CORS or any ma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4CF5-2CCF-4ED3-A953-4AD850C5C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rcRect l="40480" t="40315" r="31917" b="28626"/>
          <a:stretch/>
        </p:blipFill>
        <p:spPr>
          <a:xfrm>
            <a:off x="380880" y="1128600"/>
            <a:ext cx="4114800" cy="260532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369" name="Picture 3" descr=""/>
          <p:cNvPicPr/>
          <p:nvPr/>
        </p:nvPicPr>
        <p:blipFill>
          <a:blip r:embed="rId2"/>
          <a:srcRect l="40610" t="38835" r="32307" b="30586"/>
          <a:stretch/>
        </p:blipFill>
        <p:spPr>
          <a:xfrm>
            <a:off x="380880" y="3875040"/>
            <a:ext cx="4114800" cy="261324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sp>
        <p:nvSpPr>
          <p:cNvPr id="370" name="TextBox 2"/>
          <p:cNvSpPr/>
          <p:nvPr/>
        </p:nvSpPr>
        <p:spPr>
          <a:xfrm>
            <a:off x="4600440" y="1128600"/>
            <a:ext cx="4314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SVS2011: The survey used a limited number of receivers to from Austin to Corpus Christi.  This distance required that multiple hubs be used to minimize data lost to mutual visib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rks used as Hubs were included in all ses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ach session’s Hub connects to all marks in the session including all marks used as Hubs in other ses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istant marks connect to the session’s Hu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sult: Consistent relative positions for project marks.  All CORS contribute to aligning the project to the NS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itle 1"/>
          <p:cNvSpPr/>
          <p:nvPr/>
        </p:nvSpPr>
        <p:spPr>
          <a:xfrm>
            <a:off x="228600" y="457200"/>
            <a:ext cx="8686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Example 4: Multiple Hub examp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67E6-5AA7-4B4B-A198-B2250504D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rcRect l="961" t="9942" r="42469" b="35332"/>
          <a:stretch/>
        </p:blipFill>
        <p:spPr>
          <a:xfrm>
            <a:off x="228600" y="1246320"/>
            <a:ext cx="4572000" cy="24876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376" name="Picture 3" descr=""/>
          <p:cNvPicPr/>
          <p:nvPr/>
        </p:nvPicPr>
        <p:blipFill>
          <a:blip r:embed="rId2"/>
          <a:srcRect l="1443" t="9543" r="42356" b="35272"/>
          <a:stretch/>
        </p:blipFill>
        <p:spPr>
          <a:xfrm>
            <a:off x="228600" y="3809880"/>
            <a:ext cx="4572000" cy="252432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sp>
        <p:nvSpPr>
          <p:cNvPr id="377" name="TextBox 2"/>
          <p:cNvSpPr/>
          <p:nvPr/>
        </p:nvSpPr>
        <p:spPr>
          <a:xfrm>
            <a:off x="4800600" y="124632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n you identify the advantages and disadvantages of these two network desig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itle 1"/>
          <p:cNvSpPr/>
          <p:nvPr/>
        </p:nvSpPr>
        <p:spPr>
          <a:xfrm>
            <a:off x="228600" y="457200"/>
            <a:ext cx="8686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Example 5: Same project, two desig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84A6-DED1-4D6E-A404-206AF8600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bout A Project H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Hub = a mark specifically occupied to act as a Hub for a project.  This implies you’ve planned ahead and recognized that there is no suitable CORS.  Good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Hubs are used similarly to CORS Hub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ne project Hub if at all pos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Hubs appear in all sess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ject Hub’s occupation must span its entire se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ject Hub’s occupation must sufficient to remedy mutual visibility data loss to the more distant C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project Hub are unconstrained, sessions should include multiple local and/or distant CORS to better tie the project Hub into the NS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E375-45EF-4C5D-9301-250DE04C5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6: Single project Hu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Oval 3"/>
          <p:cNvSpPr/>
          <p:nvPr/>
        </p:nvSpPr>
        <p:spPr>
          <a:xfrm>
            <a:off x="5638680" y="3517920"/>
            <a:ext cx="152640" cy="152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6172200" y="3594240"/>
            <a:ext cx="152280" cy="152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5"/>
          <p:cNvSpPr/>
          <p:nvPr/>
        </p:nvSpPr>
        <p:spPr>
          <a:xfrm>
            <a:off x="5791320" y="4127400"/>
            <a:ext cx="152280" cy="152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6"/>
          <p:cNvSpPr/>
          <p:nvPr/>
        </p:nvSpPr>
        <p:spPr>
          <a:xfrm>
            <a:off x="6445080" y="4127400"/>
            <a:ext cx="152640" cy="152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7"/>
          <p:cNvSpPr/>
          <p:nvPr/>
        </p:nvSpPr>
        <p:spPr>
          <a:xfrm>
            <a:off x="6140520" y="4432320"/>
            <a:ext cx="152280" cy="152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val 8"/>
          <p:cNvSpPr/>
          <p:nvPr/>
        </p:nvSpPr>
        <p:spPr>
          <a:xfrm>
            <a:off x="6373800" y="3898800"/>
            <a:ext cx="152280" cy="152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6705720" y="3701880"/>
            <a:ext cx="152280" cy="152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Isosceles Triangle 10"/>
          <p:cNvSpPr/>
          <p:nvPr/>
        </p:nvSpPr>
        <p:spPr>
          <a:xfrm>
            <a:off x="5257800" y="290844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Isosceles Triangle 11"/>
          <p:cNvSpPr/>
          <p:nvPr/>
        </p:nvSpPr>
        <p:spPr>
          <a:xfrm>
            <a:off x="7010280" y="4473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traight Connector 12"/>
          <p:cNvSpPr/>
          <p:nvPr/>
        </p:nvSpPr>
        <p:spPr>
          <a:xfrm>
            <a:off x="5388120" y="3114720"/>
            <a:ext cx="326880" cy="479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traight Connector 13"/>
          <p:cNvSpPr/>
          <p:nvPr/>
        </p:nvSpPr>
        <p:spPr>
          <a:xfrm>
            <a:off x="5334120" y="3060720"/>
            <a:ext cx="533160" cy="1066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traight Connector 14"/>
          <p:cNvSpPr/>
          <p:nvPr/>
        </p:nvSpPr>
        <p:spPr>
          <a:xfrm>
            <a:off x="5334120" y="3060720"/>
            <a:ext cx="914400" cy="596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traight Connector 15"/>
          <p:cNvSpPr/>
          <p:nvPr/>
        </p:nvSpPr>
        <p:spPr>
          <a:xfrm>
            <a:off x="5334120" y="3060720"/>
            <a:ext cx="88236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16"/>
          <p:cNvSpPr/>
          <p:nvPr/>
        </p:nvSpPr>
        <p:spPr>
          <a:xfrm>
            <a:off x="5410080" y="3213000"/>
            <a:ext cx="111132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traight Connector 17"/>
          <p:cNvSpPr/>
          <p:nvPr/>
        </p:nvSpPr>
        <p:spPr>
          <a:xfrm>
            <a:off x="5334120" y="3060720"/>
            <a:ext cx="1062000" cy="860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traight Connector 18"/>
          <p:cNvSpPr/>
          <p:nvPr/>
        </p:nvSpPr>
        <p:spPr>
          <a:xfrm>
            <a:off x="5334120" y="3060720"/>
            <a:ext cx="1393560" cy="66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Oval 19"/>
          <p:cNvSpPr/>
          <p:nvPr/>
        </p:nvSpPr>
        <p:spPr>
          <a:xfrm>
            <a:off x="1600200" y="3625920"/>
            <a:ext cx="152280" cy="152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Oval 20"/>
          <p:cNvSpPr/>
          <p:nvPr/>
        </p:nvSpPr>
        <p:spPr>
          <a:xfrm>
            <a:off x="2133720" y="3701880"/>
            <a:ext cx="152280" cy="152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Oval 21"/>
          <p:cNvSpPr/>
          <p:nvPr/>
        </p:nvSpPr>
        <p:spPr>
          <a:xfrm>
            <a:off x="1752480" y="4235400"/>
            <a:ext cx="152640" cy="152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22"/>
          <p:cNvSpPr/>
          <p:nvPr/>
        </p:nvSpPr>
        <p:spPr>
          <a:xfrm>
            <a:off x="2406600" y="4235400"/>
            <a:ext cx="152280" cy="152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Oval 23"/>
          <p:cNvSpPr/>
          <p:nvPr/>
        </p:nvSpPr>
        <p:spPr>
          <a:xfrm>
            <a:off x="2101680" y="4540320"/>
            <a:ext cx="152640" cy="152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24"/>
          <p:cNvSpPr/>
          <p:nvPr/>
        </p:nvSpPr>
        <p:spPr>
          <a:xfrm>
            <a:off x="2335320" y="4006800"/>
            <a:ext cx="152280" cy="152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Oval 25"/>
          <p:cNvSpPr/>
          <p:nvPr/>
        </p:nvSpPr>
        <p:spPr>
          <a:xfrm>
            <a:off x="2666880" y="3809880"/>
            <a:ext cx="152640" cy="152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Isosceles Triangle 26"/>
          <p:cNvSpPr/>
          <p:nvPr/>
        </p:nvSpPr>
        <p:spPr>
          <a:xfrm>
            <a:off x="1219320" y="3016080"/>
            <a:ext cx="30456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Isosceles Triangle 27"/>
          <p:cNvSpPr/>
          <p:nvPr/>
        </p:nvSpPr>
        <p:spPr>
          <a:xfrm>
            <a:off x="2971800" y="458136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28"/>
          <p:cNvSpPr/>
          <p:nvPr/>
        </p:nvSpPr>
        <p:spPr>
          <a:xfrm>
            <a:off x="1349280" y="3222720"/>
            <a:ext cx="327240" cy="479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traight Connector 29"/>
          <p:cNvSpPr/>
          <p:nvPr/>
        </p:nvSpPr>
        <p:spPr>
          <a:xfrm>
            <a:off x="1295280" y="3168720"/>
            <a:ext cx="533520" cy="1066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30"/>
          <p:cNvSpPr/>
          <p:nvPr/>
        </p:nvSpPr>
        <p:spPr>
          <a:xfrm>
            <a:off x="1295280" y="3168720"/>
            <a:ext cx="914400" cy="596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31"/>
          <p:cNvSpPr/>
          <p:nvPr/>
        </p:nvSpPr>
        <p:spPr>
          <a:xfrm>
            <a:off x="1295280" y="3168720"/>
            <a:ext cx="88272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32"/>
          <p:cNvSpPr/>
          <p:nvPr/>
        </p:nvSpPr>
        <p:spPr>
          <a:xfrm>
            <a:off x="1371600" y="3321000"/>
            <a:ext cx="111132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traight Connector 33"/>
          <p:cNvSpPr/>
          <p:nvPr/>
        </p:nvSpPr>
        <p:spPr>
          <a:xfrm>
            <a:off x="1295280" y="3168720"/>
            <a:ext cx="1062000" cy="860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34"/>
          <p:cNvSpPr/>
          <p:nvPr/>
        </p:nvSpPr>
        <p:spPr>
          <a:xfrm>
            <a:off x="1295280" y="3168720"/>
            <a:ext cx="1393920" cy="66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traight Connector 36"/>
          <p:cNvSpPr/>
          <p:nvPr/>
        </p:nvSpPr>
        <p:spPr>
          <a:xfrm>
            <a:off x="5334120" y="3060720"/>
            <a:ext cx="1752480" cy="1565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traight Connector 38"/>
          <p:cNvSpPr/>
          <p:nvPr/>
        </p:nvSpPr>
        <p:spPr>
          <a:xfrm flipV="1">
            <a:off x="1295280" y="2666880"/>
            <a:ext cx="696960" cy="50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traight Connector 39"/>
          <p:cNvSpPr/>
          <p:nvPr/>
        </p:nvSpPr>
        <p:spPr>
          <a:xfrm flipV="1">
            <a:off x="2133720" y="2057040"/>
            <a:ext cx="731880" cy="501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Isosceles Triangle 40"/>
          <p:cNvSpPr/>
          <p:nvPr/>
        </p:nvSpPr>
        <p:spPr>
          <a:xfrm>
            <a:off x="2743200" y="18288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traight Connector 44"/>
          <p:cNvSpPr/>
          <p:nvPr/>
        </p:nvSpPr>
        <p:spPr>
          <a:xfrm>
            <a:off x="1940040" y="25304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traight Connector 45"/>
          <p:cNvSpPr/>
          <p:nvPr/>
        </p:nvSpPr>
        <p:spPr>
          <a:xfrm>
            <a:off x="2016000" y="25304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traight Connector 47"/>
          <p:cNvSpPr/>
          <p:nvPr/>
        </p:nvSpPr>
        <p:spPr>
          <a:xfrm flipV="1">
            <a:off x="5334120" y="2635200"/>
            <a:ext cx="696960" cy="50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48"/>
          <p:cNvSpPr/>
          <p:nvPr/>
        </p:nvSpPr>
        <p:spPr>
          <a:xfrm flipV="1">
            <a:off x="6172200" y="2025360"/>
            <a:ext cx="731880" cy="501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Isosceles Triangle 49"/>
          <p:cNvSpPr/>
          <p:nvPr/>
        </p:nvSpPr>
        <p:spPr>
          <a:xfrm>
            <a:off x="6781680" y="1797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50"/>
          <p:cNvSpPr/>
          <p:nvPr/>
        </p:nvSpPr>
        <p:spPr>
          <a:xfrm>
            <a:off x="5978520" y="2498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51"/>
          <p:cNvSpPr/>
          <p:nvPr/>
        </p:nvSpPr>
        <p:spPr>
          <a:xfrm>
            <a:off x="6054840" y="2498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Isosceles Triangle 52"/>
          <p:cNvSpPr/>
          <p:nvPr/>
        </p:nvSpPr>
        <p:spPr>
          <a:xfrm>
            <a:off x="4343400" y="541980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Isosceles Triangle 53"/>
          <p:cNvSpPr/>
          <p:nvPr/>
        </p:nvSpPr>
        <p:spPr>
          <a:xfrm>
            <a:off x="8229600" y="296244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54"/>
          <p:cNvSpPr/>
          <p:nvPr/>
        </p:nvSpPr>
        <p:spPr>
          <a:xfrm>
            <a:off x="4800600" y="420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55"/>
          <p:cNvSpPr/>
          <p:nvPr/>
        </p:nvSpPr>
        <p:spPr>
          <a:xfrm>
            <a:off x="4876920" y="420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56"/>
          <p:cNvSpPr/>
          <p:nvPr/>
        </p:nvSpPr>
        <p:spPr>
          <a:xfrm>
            <a:off x="6858000" y="3038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57"/>
          <p:cNvSpPr/>
          <p:nvPr/>
        </p:nvSpPr>
        <p:spPr>
          <a:xfrm>
            <a:off x="6934320" y="3038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59"/>
          <p:cNvSpPr/>
          <p:nvPr/>
        </p:nvSpPr>
        <p:spPr>
          <a:xfrm>
            <a:off x="5334120" y="3060720"/>
            <a:ext cx="1523880" cy="7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61"/>
          <p:cNvSpPr/>
          <p:nvPr/>
        </p:nvSpPr>
        <p:spPr>
          <a:xfrm>
            <a:off x="7056360" y="3137040"/>
            <a:ext cx="1325520" cy="3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65"/>
          <p:cNvSpPr/>
          <p:nvPr/>
        </p:nvSpPr>
        <p:spPr>
          <a:xfrm flipH="1">
            <a:off x="4952520" y="3060720"/>
            <a:ext cx="381240" cy="1174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66"/>
          <p:cNvSpPr/>
          <p:nvPr/>
        </p:nvSpPr>
        <p:spPr>
          <a:xfrm flipH="1">
            <a:off x="4495320" y="4432320"/>
            <a:ext cx="381240" cy="1174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67"/>
          <p:cNvSpPr/>
          <p:nvPr/>
        </p:nvSpPr>
        <p:spPr>
          <a:xfrm>
            <a:off x="838080" y="5181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t too bad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68"/>
          <p:cNvSpPr/>
          <p:nvPr/>
        </p:nvSpPr>
        <p:spPr>
          <a:xfrm>
            <a:off x="5257800" y="5181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much 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965D-533D-4484-85D9-3204D2494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Projec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all selected distant C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all selected hubs to each session if necess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PWL, 7200 Trop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Normal constraint weigh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Network Design: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Sess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1 Hu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all Hubs from other sessions, if any, (but do not designate as Hub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all distant ma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it unused C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ained CORS on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8A0E-AFCE-4186-A68D-6237CB020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t Advi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752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how you’ll process the data before you take the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the data tell you the position, not the Dat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C1A7-539E-4C10-AF8E-6739F8632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44EF-28AC-4F22-ADD6-AA31D5F28C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ing Principle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cision is independent of baseline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curacy of the IGS orbits, the ionosphere-free combination of the phase data, and the modeling of the troposphere essentially remove these effects as a function of baseline leng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7F47-8795-4385-B17F-2B40A3BC7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ing Principle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cision depends on observation sp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data means better phase bias determination leading to better integer-fixing, more multipath averaging, better troposphere solutions and better coordinate preci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2C96-DEB9-4ABF-ADEF-5AFC9F6B2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ing Principle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ssion network designs must include both short and long baseline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baselines optimize amount of observations by mutual visibility of the satellites and long baselines are needed to decorrelate the tropospheric adjustments on the short baseli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439C-2527-43A3-8B1D-1C27F99BF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ing Principle -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79440"/>
            <a:ext cx="8229600" cy="27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NSS measurement errors are independent, they do not propagate through a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PS measurements are not like total station measurements and there are no inherent connections between the receivers in a pro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64C2-5289-4643-88C8-7EFD48451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ing Principle -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lative positions must be with respect to a single reference mark or reference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ative positions of project marks should take advantage of common-mode errors, connect to the same Hub and not introduce chains of dependencies that are not inherent in the measur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2FC0-6CDB-4A77-838D-EA240A710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OPUS Projects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work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b mark se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spheric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d C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6057-D2ED-4303-B812-76EB84D39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2790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ssion requires that baselines be def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lines are defined by selecting Hub ma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mark that is not a Hub tries to connect directly to Hu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1 Hub per session.  Make the Hub a CORS if at all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ver positions are relative to constrained ma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4-05-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C2BA-8003-45A1-840C-1EE8632D6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ggested Processing Gui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11:33:09Z</dcterms:created>
  <dc:creator>Gerald L. Mader</dc:creator>
  <dc:description/>
  <dc:language>en-US</dc:language>
  <cp:lastModifiedBy>NOSTEMP</cp:lastModifiedBy>
  <cp:lastPrinted>2014-04-29T12:02:56Z</cp:lastPrinted>
  <dcterms:modified xsi:type="dcterms:W3CDTF">2014-05-30T16:24:00Z</dcterms:modified>
  <cp:revision>108</cp:revision>
  <dc:subject/>
  <dc:title>Basic OPUS Projects Op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AC00709-E01C-457C-BBC8-783768AA8351</vt:lpwstr>
  </property>
  <property fmtid="{D5CDD505-2E9C-101B-9397-08002B2CF9AE}" pid="3" name="ArticulatePath">
    <vt:lpwstr>OPUS Projects Processing Guidance - 1a</vt:lpwstr>
  </property>
</Properties>
</file>